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63E-3BA4-42AB-942E-31FEF8F9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9E6-82E9-4730-9B2A-110A79D0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012-F1D1-4532-BB91-50718741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F6E-E132-4785-8A02-78DACCBD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D5C-4573-4A6D-AF85-72E00A3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BB2-FEE1-48F9-ADE1-63351A1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D28-66E0-4BF5-A1FE-F7C050A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ACF-A59A-4A8D-9F2D-3F913406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A4A-B192-4081-8AC5-187F775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EA1-4287-4232-B901-EC59660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BF1-E3D9-4E6F-9DDD-4CFD036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475-8D47-4E53-998D-6853DF5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F94-081F-442B-B061-8DB84F1EA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www.rbnc.org/images/curriculum/geology/Marble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OCKS WHICH ARE FORMED FROM EXISTING ROCK (SEDIMENTARY, IGNEOUS, METAMORPHIC) BY THE ACTION OF HEAT, PRESSURE, AND CHEMIC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304920"/>
            <a:ext cx="3743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91120"/>
            <a:ext cx="80773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ETAMORPHISM-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THE PROCESS OF FORMING METAMORPHIC ROCKS WITHIN THE LITHOSPHERE, MAKING THE ROCKS MORE DENSE AND LESS PO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89548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ROCK WHICH BECOMES METAMORPH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133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NSE AND LESS POROUS THEN THE PARENT ROCK FROM WHICH IT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371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INTENSE HEAT AND PRESSURE O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5053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ECRYSTALLIZATION- IS THE PROCESS OF INCREASING THE SIZE OF THE MINERAL CRYSTALS AND/OR CHANGING THE MINERAL COMPOSITION WITHOUT MELT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4100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OLIATION- PARALLEL LAYERS OF MINERALS CAUSED BY PRESSURES ON THE ROC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6705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PERTIES OF 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HEN LARGE AREAS OF ROCK ARE UNDER INTENSE HEAT AND PRESSURE CAUSING THEM TO CHANGE FORM. (RESULTS IN FOLIAT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352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– THE BUILDING OF MOUNTAIN 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006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IATION INCREASES AS HEAT AND PRESSURE ARE AD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-GRADE  ---  HIGH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4743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GIONAL METAMORPHIS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ate1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703680" cy="2239920"/>
          </a:xfrm>
          <a:prstGeom prst="rect">
            <a:avLst/>
          </a:prstGeom>
          <a:ln w="0">
            <a:noFill/>
          </a:ln>
        </p:spPr>
      </p:pic>
      <p:pic>
        <p:nvPicPr>
          <p:cNvPr id="55" name="Meta07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3801960" cy="2982960"/>
          </a:xfrm>
          <a:prstGeom prst="rect">
            <a:avLst/>
          </a:prstGeom>
          <a:ln w="0">
            <a:noFill/>
          </a:ln>
        </p:spPr>
      </p:pic>
      <p:pic>
        <p:nvPicPr>
          <p:cNvPr id="56" name="Meta05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621240" cy="3065760"/>
          </a:xfrm>
          <a:prstGeom prst="rect">
            <a:avLst/>
          </a:prstGeom>
          <a:ln w="0">
            <a:noFill/>
          </a:ln>
        </p:spPr>
      </p:pic>
      <p:pic>
        <p:nvPicPr>
          <p:cNvPr id="57" name="gneiss2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320364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971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62720" y="3733920"/>
            <a:ext cx="1619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N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0"/>
            <a:ext cx="293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LIATED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295280"/>
            <a:ext cx="208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W-GRA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62920" y="5943600"/>
            <a:ext cx="2200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-GRA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CCURS WHEN HOT MAGMA INTRUDES INTO OVERLYING ROCK AND BAKES THE ROCKS IN CONTACT WITH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419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HANGE IN THE ROCK IS LESS DRASTIC (NO FOLI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200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ESS ROCK IS AFFECTED THEN IN REG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81080" y="380880"/>
            <a:ext cx="468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TACT METAMORPHIS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2f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801B1_49-50" descr=""/>
          <p:cNvPicPr/>
          <p:nvPr/>
        </p:nvPicPr>
        <p:blipFill>
          <a:blip r:embed="rId1"/>
          <a:stretch/>
        </p:blipFill>
        <p:spPr>
          <a:xfrm>
            <a:off x="1257480" y="139536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71" name="Quartzite" descr=""/>
          <p:cNvPicPr/>
          <p:nvPr/>
        </p:nvPicPr>
        <p:blipFill>
          <a:blip r:embed="rId2"/>
          <a:srcRect l="0" t="0" r="33337" b="0"/>
          <a:stretch/>
        </p:blipFill>
        <p:spPr>
          <a:xfrm>
            <a:off x="304920" y="0"/>
            <a:ext cx="2514600" cy="2136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1904760" y="1904760"/>
            <a:ext cx="685800" cy="99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1066680"/>
            <a:ext cx="1871640" cy="220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477120" y="3048120"/>
            <a:ext cx="8380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ornfels1" descr=""/>
          <p:cNvPicPr/>
          <p:nvPr/>
        </p:nvPicPr>
        <p:blipFill>
          <a:blip r:embed="rId5"/>
          <a:stretch/>
        </p:blipFill>
        <p:spPr>
          <a:xfrm>
            <a:off x="6095880" y="4867200"/>
            <a:ext cx="2324160" cy="1990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29200" y="4648320"/>
            <a:ext cx="1371600" cy="121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57600" y="3049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N-FOLIATED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52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6172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1:47:31Z</dcterms:created>
  <dc:creator>Joe</dc:creator>
  <dc:description/>
  <dc:language>en-US</dc:language>
  <cp:lastModifiedBy>Lakeland School District</cp:lastModifiedBy>
  <dcterms:modified xsi:type="dcterms:W3CDTF">2004-12-08T13:20:17Z</dcterms:modified>
  <cp:revision>3</cp:revision>
  <dc:subject/>
  <dc:title>PowerPoint Presentation</dc:title>
</cp:coreProperties>
</file>